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applause.wav" ContentType="audio/x-wav"/>
  <Override PartName="/ppt/media/image1.pct" ContentType="image/x-pict"/>
  <Override PartName="/ppt/media/image4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5050"/>
  <p:custShowLst>
    <p:custShow name="Anpassat bildspel 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F206-7A3E-403C-857D-C315208C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DDDC-B89E-4CA2-8ADD-9983E923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CC7-634E-4ED3-AAFE-12831107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5DC-4AF3-4EA5-93AC-5F00ABE7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D7CD-DD79-44EE-8D9B-B0785F8C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8CE3-0365-44E4-BDB2-40F6E30B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997A-4EF5-4CA1-8C3F-17A08072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8F88-08B6-4394-9675-73F8B9DE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6C76-138C-47C0-813C-256095DE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36AC-F89B-4564-AC39-C6224B82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838A-6FE3-40BA-8C43-92659022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D4C-1BA5-4D29-A50E-7F731D6A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1933-94BA-4228-9996-393AFC7C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A3D2-82CF-40EC-AC3A-EFE46DC0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4F3B-7782-4949-8C58-F7E354B8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C4B1-9777-42A6-99D7-0D17ECBA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1374-55B0-4C68-800B-10D51571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F65-D3B6-486B-9837-0A7F6977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D75A-1ABA-40B3-9297-AF756B6B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392-FE60-4E93-9314-A37B256A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967-0394-4BEA-817C-3E5BEA8E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531-6304-447F-A70A-74A7AC0C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87E-5C5D-4A8E-A5AD-DCA386EC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31A-46D6-4FAD-AC95-64344CAB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E223-02BD-4BD7-BB5D-EB16EAEEF2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2561-2B8C-4EA1-A760-8257E46374A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Comic Sans MS"/>
              </a:rPr>
              <a:t>DECKAR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6324480"/>
            <a:ext cx="388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attias Johansson, Tullbroskolan, Falkenberg – www.lektion.s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LUT!!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609480" y="458136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in"/>
    <p:sndAc>
      <p:stSnd>
        <p:snd r:embed="rId2" name="applause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83237E-006 C 0.01389 -0.00208 0.02552 -0.00486 0.03975 -0.00648 C 0.04948 -0.01087 0.05955 -0.01619 0.06979 -0.01896 C 0.08958 -0.02428 0.10955 -0.02706 0.12864 -0.03607 C 0.13298 -0.0437 0.13628 -0.05249 0.14132 -0.05919 C 0.16163 -0.08625 0.18767 -0.10636 0.20642 -0.13526 C 0.21076 -0.1422 0.24722 -0.20602 0.25399 -0.21781 C 0.26337 -0.23399 0.26666 -0.2444 0.2776 -0.25365 C 0.30139 -0.27353 0.325 -0.27607 0.35243 -0.27908 C 0.35816 -0.27977 0.36389 -0.28023 0.36979 -0.28116 C 0.37725 -0.28232 0.39184 -0.28532 0.39184 -0.28532 C 0.40104 -0.28948 0.40972 -0.29549 0.41909 -0.29804 C 0.42673 -0.30012 0.44288 -0.30243 0.44288 -0.30243 C 0.45191 -0.30104 0.46093 -0.30035 0.46979 -0.29804 C 0.49357 -0.29203 0.51614 -0.27654 0.53958 -0.26844 C 0.546 -0.26636 0.55243 -0.2659 0.5585 -0.26428 C 0.56354 -0.26312 0.5684 -0.26174 0.57309 -0.26012 C 0.58958 -0.25434 0.60573 -0.24578 0.62222 -0.23885 C 0.6283 -0.2363 0.63871 -0.23099 0.64427 -0.22613 C 0.65156 -0.21989 0.64982 -0.21457 0.6585 -0.21133 C 0.67725 -0.19122 0.65816 -0.20948 0.6809 -0.19445 C 0.68437 -0.19214 0.68715 -0.18867 0.69045 -0.18613 C 0.69809 -0.18035 0.7033 -0.17896 0.71111 -0.17549 C 0.71823 -0.17226 0.7243 -0.16717 0.73177 -0.16486 C 0.75347 -0.13665 0.73507 -0.15838 0.79045 -0.12255 C 0.83993 -0.09041 0.82777 -0.09388 0.87934 -0.07191 C 0.88923 -0.06775 0.8993 -0.06336 0.90955 -0.06128 C 0.92413 -0.05827 0.95399 -0.05711 0.95399 -0.05711 C 1.01371 -0.04139 1.06527 0.01017 1.1158 0.05271 C 1.1401 0.07306 1.16128 0.09965 1.1842 0.12254 C 1.18993 0.12809 1.2 0.1415 1.2 0.1415 E">
                                      <p:cBhvr>
                                        <p:cTn id="39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DECKARFORM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TT BROTT HAR BEGÅT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T FINNS FLERA MISSTÄNK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ÅGON FÖRSÖKER LÖSA FAL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4653000"/>
            <a:ext cx="879480" cy="181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53 -0.17387 C -0.02553 -0.20069 -0.01962 -0.16763 -0.02796 -0.19491 C -0.02969 -0.20046 -0.02969 -0.20647 -0.03108 -0.21202 C -0.03195 -0.22936 -0.0316 -0.24624 -0.03577 -0.26266 C -0.0382 -0.28185 -0.04046 -0.30011 -0.04219 -0.31977 C -0.04271 -0.32531 -0.04375 -0.33664 -0.04375 -0.33664 C -0.04323 -0.38728 -0.04323 -0.43815 -0.04219 -0.48878 C -0.04184 -0.50913 -0.03316 -0.53271 -0.02952 -0.55237 C -0.02657 -0.56809 -0.02344 -0.58982 -0.01355 -0.60092 C -0.00434 -0.61133 0.01718 -0.61063 0.02604 -0.61156 C 0.03663 -0.61086 0.04722 -0.61109 0.05781 -0.60925 C 0.05972 -0.60901 0.06093 -0.60624 0.0625 -0.60508 C 0.07048 -0.6 0.07882 -0.59768 0.08645 -0.59237 C 0.09045 -0.5852 0.09548 -0.57896 0.09913 -0.57133 C 0.10434 -0.56046 0.10798 -0.5482 0.11336 -0.53757 C 0.13281 -0.49919 0.14687 -0.46867 0.15937 -0.42543 C 0.16354 -0.41109 0.16475 -0.40809 0.16736 -0.39375 C 0.16961 -0.38104 0.17378 -0.3556 0.17378 -0.3556 C 0.17517 -0.33664 0.17656 -0.31907 0.18003 -0.30081 C 0.18263 -0.27214 0.18593 -0.24416 0.19114 -0.21618 C 0.1927 -0.19722 0.19722 -0.1815 0.20069 -0.16323 C 0.20416 -0.14451 0.20642 -0.12485 0.21024 -0.10612 C 0.21458 -0.08462 0.22152 -0.06358 0.2276 -0.04277 C 0.2342 -0.02011 0.23645 -0.00439 0.25156 0.00995 C 0.25486 0.01318 0.25902 0.01411 0.26267 0.01642 C 0.26632 0.01573 0.27031 0.01642 0.27378 0.01434 C 0.2842 0.00786 0.29062 -0.01896 0.29913 -0.03005 C 0.30208 -0.03838 0.30555 -0.04462 0.31024 -0.05133 C 0.31354 -0.06659 0.31493 -0.08254 0.31822 -0.0978 C 0.32361 -0.12231 0.32517 -0.12069 0.3276 -0.14427 C 0.32968 -0.16531 0.32795 -0.15583 0.33246 -0.17387 C 0.33298 -0.17595 0.33402 -0.18011 0.33402 -0.18011 C 0.33541 -0.2 0.33524 -0.22427 0.34357 -0.24162 C 0.34895 -0.27029 0.35243 -0.30011 0.3592 -0.32809 C 0.36024 -0.363 0.35816 -0.40901 0.36423 -0.44439 C 0.37031 -0.48 0.38072 -0.50959 0.396 -0.53965 C 0.3993 -0.54612 0.40121 -0.55375 0.40382 -0.56069 C 0.4118 -0.58219 0.42187 -0.60277 0.43229 -0.62196 C 0.44027 -0.6363 0.45017 -0.64971 0.45781 -0.66427 C 0.46909 -0.68555 0.48159 -0.72578 0.50069 -0.73826 C 0.50173 -0.73896 0.51788 -0.74242 0.51822 -0.74242 C 0.54132 -0.75375 0.56076 -0.74335 0.58802 -0.74034 C 0.60173 -0.72971 0.59097 -0.73965 0.60225 -0.72346 C 0.60625 -0.71768 0.61493 -0.70659 0.61493 -0.70659 C 0.61684 -0.64416 0.60329 -0.65641 0.63246 -0.65156 C 0.63559 -0.65109 0.63888 -0.65017 0.64201 -0.64948 C 0.64513 -0.64809 0.64982 -0.64901 0.65156 -0.64531 C 0.65572 -0.63676 0.65312 -0.64023 0.65937 -0.63468 C 0.66371 -0.62659 0.6684 -0.61826 0.67378 -0.61156 C 0.67656 -0.60416 0.67829 -0.59722 0.68159 -0.59029 C 0.68454 -0.56555 0.68524 -0.54011 0.69114 -0.5163 C 0.69357 -0.49294 0.69965 -0.47144 0.70382 -0.44878 C 0.70295 -0.38774 0.70902 -0.33988 0.68958 -0.28809 C 0.6868 -0.26982 0.67882 -0.25526 0.67204 -0.2393 C 0.66423 -0.22081 0.67395 -0.23583 0.66423 -0.22242 C 0.65937 -0.20716 0.65312 -0.19422 0.6467 -0.18011 C 0.64236 -0.17063 0.63767 -0.1704 0.63246 -0.16323 C 0.62552 -0.15399 0.63368 -0.15884 0.62447 -0.15491 C 0.61458 -0.14173 0.62013 -0.1452 0.6085 -0.14219 C 0.60191 -0.14797 0.60399 -0.14913 0.596 -0.13803 C 0.57829 -0.11306 0.58177 -0.11352 0.56736 -0.09572 C 0.54895 -0.07329 0.56632 -0.09942 0.54513 -0.06404 C 0.54288 -0.06057 0.52934 -0.04948 0.52586 -0.04693 C 0.50937 -0.03468 0.49479 -0.02404 0.47691 -0.01734 C 0.45434 -0.02104 0.44079 -0.02404 0.41822 -0.02589 C 0.41666 -0.02728 0.4151 -0.0289 0.41336 -0.03005 C 0.4118 -0.03098 0.41007 -0.03098 0.40868 -0.03214 C 0.40052 -0.03838 0.3927 -0.04647 0.38472 -0.05341 C 0.36684 -0.06936 0.38454 -0.06081 0.37204 -0.06612 C 0.36267 -0.09086 0.37621 -0.09364 0.36579 -0.1274 C 0.36423 -0.13271 0.35729 -0.1274 0.35312 -0.1274 E">
                                      <p:cBhvr>
                                        <p:cTn id="1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N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VÄND DIG AV EGNA UPPLEVEL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VÄND DIG AV SÅDANT SOM HÄNDER RUNT OMKRING D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KRIV SLUT PÅ VERKLIGA HÄNDELSER SOM INTE ÄR LÖSTA Ä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ÄS DECKARE OCH ANVÄND DESSA SOM MALL FÖR DIN EGEN DECK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LATS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ART SKALL BROTTET SK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LATSEN BÖR KÄNNAS VÄL TILL SÅ ATT EN DETALJRIK MILJÖ- BESKRIVNING KAN GÖ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324000" y="4437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449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64162E-006 C 0.02205 -0.00578 -0.01302 0.00301 0.02708 -0.00439 C 0.0368 -0.00624 0.04757 -0.00948 0.05712 -0.01271 C 0.06232 -0.01433 0.06788 -0.01849 0.07309 -0.01919 C 0.08142 -0.02034 0.08993 -0.02058 0.09844 -0.02127 C 0.14114 -0.01942 0.1809 -0.01433 0.22378 -0.01271 C 0.24896 -0.00948 0.25 -0.00832 0.2842 -0.01271 C 0.28611 -0.01295 0.28715 -0.01618 0.28889 -0.01688 C 0.29201 -0.01826 0.29531 -0.01849 0.29844 -0.01919 C 0.30451 -0.02451 0.31041 -0.02728 0.31753 -0.02959 C 0.33403 -0.04508 0.36493 -0.03468 0.37934 -0.03399 C 0.41562 -0.02358 0.44323 -0.03075 0.48576 -0.03167 C 0.49462 -0.03491 0.50382 -0.03422 0.51267 -0.03815 C 0.52101 -0.04878 0.51406 -0.04115 0.52708 -0.05086 C 0.53594 -0.05734 0.53976 -0.07098 0.55087 -0.0719 C 0.56406 -0.07306 0.57726 -0.07329 0.59045 -0.07399 C 0.60121 -0.0837 0.61771 -0.08601 0.63021 -0.08878 C 0.63906 -0.08832 0.66041 -0.09318 0.67153 -0.08254 C 0.68559 -0.06913 0.69913 -0.04925 0.71267 -0.03399 C 0.72587 -0.01919 0.72344 -0.01063 0.74288 -0.00647 C 0.74948 0.00023 0.7526 0.00162 0.76041 0.00416 C 0.76684 0.01272 0.77239 0.01226 0.7809 0.01688 C 0.79253 0.02336 0.80382 0.03399 0.81597 0.03792 C 0.82448 0.04578 0.82257 0.04925 0.83333 0.0548 C 0.8401 0.06382 0.84687 0.06752 0.85555 0.07191 C 0.85833 0.06012 0.85521 0.06613 0.86823 0.06752 C 0.88628 0.06937 0.92222 0.07191 0.92222 0.07191 C 0.93073 0.08046 0.94583 0.09573 0.95712 0.09711 C 0.96562 0.09827 0.97413 0.0985 0.98264 0.09919 C 1.01163 0.11099 1.0401 0.12416 1.06823 0.13942 C 1.07621 0.14359 1.08472 0.14636 1.09201 0.15214 C 1.10677 0.16416 1.1217 0.17596 1.13646 0.18798 C 1.15989 0.20717 1.18437 0.22243 1.20798 0.24093 C 1.21701 0.24786 1.22587 0.25364 1.23646 0.25364 E">
                                      <p:cBhvr>
                                        <p:cTn id="2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LANERING, PLANER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ÖR ATT KUNNA GÖRA EN BRA DECKARE ÄR DET VIKTIGT MED EN BRA PLAN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ÖRJA MED INLEDNING OCH UPP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ÖSNING PÅ BROTT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ÖR EXEMPELVIS EN TANKEKAR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T KAN ÄVEN VARA BRA ATT GÖRA EN SPÄNNINGSKURVA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PÄNNINGSKURV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425600"/>
            <a:ext cx="8424720" cy="2363760"/>
          </a:xfrm>
          <a:custGeom>
            <a:avLst/>
            <a:gdLst/>
            <a:ahLst/>
            <a:rect l="l" t="t" r="r" b="b"/>
            <a:pathLst>
              <a:path w="4582" h="1262">
                <a:moveTo>
                  <a:pt x="0" y="1217"/>
                </a:moveTo>
                <a:cubicBezTo>
                  <a:pt x="136" y="1095"/>
                  <a:pt x="273" y="974"/>
                  <a:pt x="409" y="808"/>
                </a:cubicBezTo>
                <a:cubicBezTo>
                  <a:pt x="545" y="642"/>
                  <a:pt x="621" y="151"/>
                  <a:pt x="817" y="219"/>
                </a:cubicBezTo>
                <a:cubicBezTo>
                  <a:pt x="1013" y="287"/>
                  <a:pt x="1301" y="1232"/>
                  <a:pt x="1588" y="1217"/>
                </a:cubicBezTo>
                <a:cubicBezTo>
                  <a:pt x="1875" y="1202"/>
                  <a:pt x="2223" y="121"/>
                  <a:pt x="2540" y="128"/>
                </a:cubicBezTo>
                <a:cubicBezTo>
                  <a:pt x="2857" y="135"/>
                  <a:pt x="3191" y="1262"/>
                  <a:pt x="3493" y="1262"/>
                </a:cubicBezTo>
                <a:cubicBezTo>
                  <a:pt x="3795" y="1262"/>
                  <a:pt x="4174" y="256"/>
                  <a:pt x="4355" y="128"/>
                </a:cubicBezTo>
                <a:cubicBezTo>
                  <a:pt x="4536" y="0"/>
                  <a:pt x="4544" y="431"/>
                  <a:pt x="4582" y="49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KRIVTI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RSO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KURK OCH EX. DETEKTIVEN BÖR VARA LIKA SMARTA. KAMPEN DEM EMELLAN BÖR VARA JÄMN. DETTA LEDER TILL SPÄ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VÄND S.K ”FLAGGNING”. DETTA KAN EX. VARA ATT MAN FÅR REDA PÅ SAKER I FÖRVÄ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VÄND DIG AV BROTTSUTREDNINGS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ODER. BLOD-, OCH HÅRANALY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85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KRIVTI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ND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ÖR DIN DECKARE SPÄNNANDE. LÅ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EMPELVIS ETT HOT FINNAS M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T ENLIGT ETT SPECIELLT MÖN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IDNAPPNING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VÄND DIG AV LUGNA OCH SNABBA AVSNIT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ÅT OFFRET FÅ SYMPA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62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7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DIALOG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ALOGEN ÄR VIKTIG I EN DECK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N FÅR LÄSAREN ATT KÄNNA SIG SOM EN LYSSNARE OCH DELAK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ÅT DECKAREN HA EN SAMTALSPART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ÄNK PÅ ATT INTE HA FÖR LÅNGA DIALOGER. DET BLIR TRÖTTSAMT ATT LÄ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5:39Z</dcterms:created>
  <dc:creator>mat103</dc:creator>
  <dc:description/>
  <dc:language>en-US</dc:language>
  <cp:lastModifiedBy>Mattias Räftegård</cp:lastModifiedBy>
  <dcterms:modified xsi:type="dcterms:W3CDTF">2008-10-02T08:43:12Z</dcterms:modified>
  <cp:revision>11</cp:revision>
  <dc:subject/>
  <dc:title>DECKARE</dc:title>
</cp:coreProperties>
</file>