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ct" ContentType="image/x-pict"/>
  <Override PartName="/ppt/media/image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C88-3EB4-4B6F-818F-69250661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244-80C2-447D-A733-B06AE452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ECF-DF77-4961-925F-AA204CA6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B67-EF8D-409C-B41D-20F662AE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5D4-6ED8-41DD-8A20-2300D511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FD6-4E3A-4775-8E1F-40F58D4C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7B3-C9B2-4A8E-9081-FF90B24A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427-8A01-489B-93E2-D0452E04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9B8-6D4A-45B4-AF63-3866E79A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71E-1899-49FA-8755-039A87DC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E59-3BCB-46BC-9C60-DA7C87B1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F54-E088-45D3-8B84-1D5B5277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12CD-BC8E-4F73-A5E6-9E739CC1E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476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DECK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1773360"/>
            <a:ext cx="7705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Följande delar brukar </a:t>
            </a:r>
            <a:r>
              <a:rPr b="1" i="1" lang="sv-SE" sz="2000" spc="-1" strike="noStrike">
                <a:solidFill>
                  <a:srgbClr val="dddddd"/>
                </a:solidFill>
                <a:latin typeface="Arial"/>
              </a:rPr>
              <a:t>vanligtvis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ingå i en deck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1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akgrundsberättelsen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där tid, miljö, personer och relationer beskrivs, själva ramen vari allt utspelar si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2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eskrivningen av själva brottet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är huvudingrediensen i en deckare. Det är detta som är höjdpunkten och som allt kretsar krin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3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rottets utredande eller förklaringen till brottet.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I den här delen av berättelsen byggs en kedja upp som ska leda till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4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Upplösningen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: brottslingen avslöjas, alternativt avslöjas i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27620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76360" y="1844640"/>
            <a:ext cx="70563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Brottslingen är i centrum - varför sker brottet? Hur kan en människa ev. brytas ned av brotte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Ingen vet vad som gömmer sig i människosjälen… Psykologiska drivkraf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Detektiven ointressant; finns oftast 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Upplösningen kan vara ovik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Ligger nära andra genrer</a:t>
            </a:r>
            <a:r>
              <a:rPr b="0" lang="en-US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42920" y="1628640"/>
            <a:ext cx="446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rgaret Yor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.D J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inette Wal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erstin Ek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Inger Friman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åkan Nes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arin Alvt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501336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Karin Alvt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476800" cy="315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6360" y="1844640"/>
            <a:ext cx="70563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örsiktiga, lågmälda spioner </a:t>
            </a:r>
            <a:br>
              <a:rPr sz="2200"/>
            </a:b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uperhjäl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Gentlemannaspion som kämpar för sitt fosterland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pioner som sviker och går över till ”andra sidan”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uperhjälten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om räddar värl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Nära en vanlig roman </a:t>
            </a:r>
            <a:br>
              <a:rPr sz="2200"/>
            </a:b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ction, våld, likriktat handlingsförlop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58920" y="1773360"/>
            <a:ext cx="42498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Ian Fle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ohn le Carr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olin Forb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en Follet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obert Ludl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rederick Forsy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listar MacL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ack Higg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an Guill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ven Wester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148428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Ian Fleming 1908-19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Casino Roy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Goldf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214360" cy="29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69228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Ungdomsdeck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58920" y="1484280"/>
            <a:ext cx="424980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Emma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ter Lidbe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gnus Nord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er Abrah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Olov Svedel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Veronica Wäg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iona Ke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Ulf Nil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jell E Gen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Laura Tr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ts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4720" y="907920"/>
            <a:ext cx="22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Emma Vall </a:t>
            </a: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är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pseudonym fö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Eva Swedenmar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Maria Herng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Annica Wennströ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51640" y="2781360"/>
            <a:ext cx="2857320" cy="28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692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lika typer av deck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76360" y="1844640"/>
            <a:ext cx="73436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klassiska engelska detektivromanen /”Pusseldeckar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klassiska engelska detektivromanen 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”Pusseldeckar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76360" y="1844640"/>
            <a:ext cx="705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Knepig gåta är det viktigaste (listiga alibi, kan vara ett planerat bro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Finns ett antal misstänkta, kanske har brottet skett i ett låst rum eller h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Inga ledtrådar får döljas för läs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Mysiga miljö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ivatdetektiv-amatör eller professionell, gärna en äldre dam eller herre, lite speci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Detektiven har någon att bolla sina tankar 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klassiska engelska detektivromanen 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”Pusseldeckar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58920" y="1773360"/>
            <a:ext cx="41050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Agatha Christie</a:t>
            </a:r>
            <a:br>
              <a:rPr sz="2000"/>
            </a:b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P.D J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Minette Wa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Elisabeth Ge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Stieg/Ulla Tr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Jan Mårten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867280" y="1989000"/>
            <a:ext cx="2940120" cy="338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867280" y="5589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Agatha Christie 1890-1976</a:t>
            </a:r>
            <a:br>
              <a:rPr sz="1800"/>
            </a:b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Miss Marple</a:t>
            </a:r>
            <a:br>
              <a:rPr sz="1800"/>
            </a:b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Hercule Poi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42920" y="1773360"/>
            <a:ext cx="7056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Vår värld är ond och någon måste rensa upp i träsket</a:t>
            </a:r>
            <a:br>
              <a:rPr sz="2200"/>
            </a:b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Sjabbig men rättrådig privatdetektiv (poliskommissar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Trista miljöer ofta i storstad, samhällets ”baksid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Brottet inte så planerat, kan vara slumpartat, lösningen likas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58920" y="1773360"/>
            <a:ext cx="43210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Raymond Chand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Walter Mos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Sue Graf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Michael Conn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2511720" cy="266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630072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Michael Conn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692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76360" y="1844640"/>
            <a:ext cx="7056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Det vanliga rutinarbetet för polisen viktig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En grupp poliser arbetar med fallet. Ev. kan någon synas lite 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Ofta storstadsmilj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Ofta slumpen som avgör om man kan lösa brot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71640" y="1773360"/>
            <a:ext cx="439236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Ed McB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nna Ho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arin Foss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eginald H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olin Dex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er Robin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jöwall/Wahlö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Olov Svedel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enning Mank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4720" y="4797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Henning  Mank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Henning Mankell one of the bestselling Swedish authors of all time."/>
          <p:cNvPicPr/>
          <p:nvPr/>
        </p:nvPicPr>
        <p:blipFill>
          <a:blip r:embed="rId2"/>
          <a:srcRect l="14399" t="0" r="0" b="0"/>
          <a:stretch/>
        </p:blipFill>
        <p:spPr>
          <a:xfrm>
            <a:off x="6084720" y="1773360"/>
            <a:ext cx="2568600" cy="2981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58920" y="1628640"/>
            <a:ext cx="4608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Fler 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åkan Nes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Åke Edward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jell Erik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amilla Läck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rne Da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rie Jungst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Åsa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tieg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Liza Markl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72360" y="24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Camilla Läck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8170" r="0" b="0"/>
          <a:stretch/>
        </p:blipFill>
        <p:spPr>
          <a:xfrm>
            <a:off x="6300720" y="3068640"/>
            <a:ext cx="2401920" cy="331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18:35:48Z</dcterms:created>
  <dc:creator>IT- Avd.</dc:creator>
  <dc:description/>
  <dc:language>en-US</dc:language>
  <cp:lastModifiedBy>Per Malkert</cp:lastModifiedBy>
  <dcterms:modified xsi:type="dcterms:W3CDTF">2007-07-30T11:27:31Z</dcterms:modified>
  <cp:revision>83</cp:revision>
  <dc:subject/>
  <dc:title>Bild 1</dc:title>
</cp:coreProperties>
</file>