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BF5-EC5B-47E8-B79D-80244770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BBC-2A29-4C07-B265-8A2A00D8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0E4-7B18-4316-A042-42FC1F98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403-1C01-4A79-A613-D06968B5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D76-5E29-4A63-A513-32DEDED0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F04-13C9-4504-A8BA-76C7F551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8A1-107D-469E-AF6F-97732E7D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1AC-6BB3-469A-B813-78880CD5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EAD-5D71-43CC-9568-CED9AF42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542-85E4-4A73-A0B1-5A672FED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CBE-8840-459A-98CD-4E0E2B1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8812-13A4-4D98-8FB6-3C0E250A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8FBB-6A51-46F5-9FF7-686C9488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DECK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7733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Följande delar brukar </a:t>
            </a:r>
            <a:r>
              <a:rPr b="1" i="1" lang="sv-SE" sz="2000" spc="-1" strike="noStrike">
                <a:solidFill>
                  <a:srgbClr val="dddddd"/>
                </a:solidFill>
                <a:latin typeface="Arial"/>
              </a:rPr>
              <a:t>vanligtvis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ngå i en deck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1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akgrundsberättels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där tid, miljö, personer och relationer beskrivs, själva ramen vari allt utspelar si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2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eskrivningen av själva brottet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är huvudingrediensen i en deckare. Det är detta som är höjdpunkten och som allt kretsar kr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3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rottets utredande eller förklaringen till brottet.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 den här delen av berättelsen byggs en kedja upp som ska leda til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4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Upplösning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: brottslingen avslöjas, alternativt avslöjas 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slingen är i centrum - varför sker brottet? Hur kan en människa ev. brytas ned av brot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Ingen vet vad som gömmer sig i människosjälen… Psykologiska drivkr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ektiven ointressant; finns oftast 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Upplösningen kan vara ovik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Ligger nära andra genrer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446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garet Yor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rstin E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nger Friman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476800" cy="315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örsiktiga, lågmälda spioner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Gentlemannaspion som kämpar för sitt fosterland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pioner som sviker och går över till ”andra sidan”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en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om räddar vär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Nära en vanlig roman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ction, våld, likriktat handlingsförlo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1773360"/>
            <a:ext cx="424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an Fle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ohn le Car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For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n Foll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obert Lud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rederick Forsy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listar Ma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ck Hig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n Guil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ven Wester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484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Ian Fleming 1908-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Casino Ro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Gold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21436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Ungdomsdec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484280"/>
            <a:ext cx="42498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mma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ter Lidb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gnus Nord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Abrah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Veronica Wä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iona Ke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Ulf Nil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 Gen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aura Tr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ts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9079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mma Vall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ä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pseudonym f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Eva Swedenm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Maria Herng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nnica Wennströ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857320" cy="28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lika typer av deck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844640"/>
            <a:ext cx="734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klassiska engelska detektivromanen /”Pusseldecka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184464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nepig gåta är det viktigaste (listiga alibi, kan vara ett planerat bro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inns ett antal misstänkta, kanske har brottet skett i ett låst rum eller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ga ledtrådar får döljas för läs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ysiga miljö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ivatdetektiv-amatör eller professionell, gärna en äldre dam eller herre, lite spec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tektiven har någon att bolla sina tankar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1773360"/>
            <a:ext cx="4105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Agatha Christie</a:t>
            </a:r>
            <a:br>
              <a:rPr sz="2000"/>
            </a:b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Elisabeth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tieg/Ulla T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Jan Mår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40120" cy="338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867280" y="558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Agatha Christie 1890-1976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Miss Marple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Hercule Poi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1773360"/>
            <a:ext cx="705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Vår värld är ond och någon måste rensa upp i träsket</a:t>
            </a:r>
            <a:br>
              <a:rPr sz="2200"/>
            </a:b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Sjabbig men rättrådig privatdetektiv (poliskommissa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Trista miljöer ofta i storstad, samhällets ”baksid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et inte så planerat, kan vara slumpartat, lösningen likas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1773360"/>
            <a:ext cx="4321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aymond C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Walter Mo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ue Graf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51172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3007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844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 vanliga rutinarbetet för polisen viktig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En grupp poliser arbetar med fallet. Ev. kan någon synas lite 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torstadsmilj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lumpen som avgör om man kan lösa brot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1773360"/>
            <a:ext cx="439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d McB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nna H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Fos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eginald H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Dex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Robin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jöwall/Wahlö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enning Mank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Henning  Man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Henning Mankell one of the bestselling Swedish authors of all time."/>
          <p:cNvPicPr/>
          <p:nvPr/>
        </p:nvPicPr>
        <p:blipFill>
          <a:blip r:embed="rId2"/>
          <a:srcRect l="14399" t="0" r="0" b="0"/>
          <a:stretch/>
        </p:blipFill>
        <p:spPr>
          <a:xfrm>
            <a:off x="6084720" y="1773360"/>
            <a:ext cx="2568600" cy="2981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628640"/>
            <a:ext cx="460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Fler 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ke Edward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rik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rne Da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ie Jungst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sa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tieg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iza Markl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24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8170" r="0" b="0"/>
          <a:stretch/>
        </p:blipFill>
        <p:spPr>
          <a:xfrm>
            <a:off x="6300720" y="3068640"/>
            <a:ext cx="24019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8:35:48Z</dcterms:created>
  <dc:creator>IT- Avd.</dc:creator>
  <dc:description/>
  <dc:language>en-US</dc:language>
  <cp:lastModifiedBy>Per Malkert</cp:lastModifiedBy>
  <dcterms:modified xsi:type="dcterms:W3CDTF">2007-07-30T11:27:31Z</dcterms:modified>
  <cp:revision>83</cp:revision>
  <dc:subject/>
  <dc:title>Bild 1</dc:title>
</cp:coreProperties>
</file>