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ct" ContentType="image/x-pict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F98-D5AF-40D9-A41B-F7976009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8EF-5A2D-4546-BCFC-14695CFD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CA7-BE33-41D3-AA76-F38E3199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EBD-C89B-40A8-9599-FE923FAC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9E6-F3CB-4C40-A08B-238A65A2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B27-AFAD-4EA8-9CC4-14772433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6F2-22A1-441A-AC7E-CAA886E0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1E6-1A57-46FA-A74E-DBAB6F5B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256-D169-4757-A10E-5EBE787A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33E-3EEF-40A6-B8C1-D6D8BD2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188-E5A5-4305-8E76-4D0766CB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747-A774-4F9E-A2AF-F96079D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24FE-B6E2-4FA2-919F-60009DEC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DECK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773360"/>
            <a:ext cx="770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Följande delar brukar </a:t>
            </a:r>
            <a:r>
              <a:rPr b="1" i="1" lang="sv-SE" sz="2000" spc="-1" strike="noStrike">
                <a:solidFill>
                  <a:srgbClr val="dddddd"/>
                </a:solidFill>
                <a:latin typeface="Arial"/>
              </a:rPr>
              <a:t>vanligtvis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ngå i en deck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1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akgrundsberättels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där tid, miljö, personer och relationer beskrivs, själva ramen vari allt utspelar si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2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eskrivningen av själva brottet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är huvudingrediensen i en deckare. Det är detta som är höjdpunkten och som allt kretsar kr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3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rottets utredande eller förklaringen till brottet.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 den här delen av berättelsen byggs en kedja upp som ska leda till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4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Upplösning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: brottslingen avslöjas, alternativt avslöjas 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2762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slingen är i centrum - varför sker brottet? Hur kan en människa ev. brytas ned av brot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Ingen vet vad som gömmer sig i människosjälen… Psykologiska drivkr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ektiven ointressant; finns oftast 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Upplösningen kan vara ovik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Ligger nära andra genrer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1628640"/>
            <a:ext cx="446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garet Yor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rstin Ek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nger Friman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013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476800" cy="315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örsiktiga, lågmälda spioner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Gentlemannaspion som kämpar för sitt fosterland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pioner som sviker och går över till ”andra sidan”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en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om räddar värl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Nära en vanlig roman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ction, våld, likriktat handlingsförlo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58920" y="1773360"/>
            <a:ext cx="4249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an Fle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ohn le Carr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For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n Folle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obert Lud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rederick Forsy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listar Ma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ck Hig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n Guil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ven Wester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1484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Ian Fleming 1908-1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Casino Roy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Gold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21436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922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Ungdomsdeck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1484280"/>
            <a:ext cx="42498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mma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ter Lidb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gnus Nord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Abrah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Veronica Wäg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iona Ke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Ulf Nil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 Gen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aura Tr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ts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907920"/>
            <a:ext cx="22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mma Vall 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är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pseudonym fö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Eva Swedenm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Maria Herng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Annica Wennströ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857320" cy="28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lika typer av deck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6360" y="1844640"/>
            <a:ext cx="7343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klassiska engelska detektivromanen /”Pusseldeckar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6360" y="1844640"/>
            <a:ext cx="70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Knepig gåta är det viktigaste (listiga alibi, kan vara ett planerat bro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Finns ett antal misstänkta, kanske har brottet skett i ett låst rum eller 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Inga ledtrådar får döljas för läs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Mysiga miljö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ivatdetektiv-amatör eller professionell, gärna en äldre dam eller herre, lite speci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etektiven har någon att bolla sina tankar 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1773360"/>
            <a:ext cx="4105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Agatha Christie</a:t>
            </a:r>
            <a:br>
              <a:rPr sz="2000"/>
            </a:b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Elisabeth Ge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tieg/Ulla Tr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Jan Mårte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940120" cy="338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867280" y="5589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Agatha Christie 1890-1976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Miss Marple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Hercule Poi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2920" y="1773360"/>
            <a:ext cx="7056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Vår värld är ond och någon måste rensa upp i träsket</a:t>
            </a:r>
            <a:br>
              <a:rPr sz="2200"/>
            </a:b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Sjabbig men rättrådig privatdetektiv (poliskommissar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Trista miljöer ofta i storstad, samhällets ”baksid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et inte så planerat, kan vara slumpartat, lösningen likas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1773360"/>
            <a:ext cx="4321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aymond Ch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Walter Mo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ue Graf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511720" cy="266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30072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1844640"/>
            <a:ext cx="705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 vanliga rutinarbetet för polisen viktig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En grupp poliser arbetar med fallet. Ev. kan någon synas lite 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torstadsmilj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lumpen som avgör om man kan lösa brot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1640" y="1773360"/>
            <a:ext cx="4392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d McB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nna Ho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Fos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eginald H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Dex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Robin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jöwall/Wahlö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enning Mank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4797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Henning  Man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Henning Mankell one of the bestselling Swedish authors of all time."/>
          <p:cNvPicPr/>
          <p:nvPr/>
        </p:nvPicPr>
        <p:blipFill>
          <a:blip r:embed="rId2"/>
          <a:srcRect l="14399" t="0" r="0" b="0"/>
          <a:stretch/>
        </p:blipFill>
        <p:spPr>
          <a:xfrm>
            <a:off x="6084720" y="1773360"/>
            <a:ext cx="2568600" cy="2981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1628640"/>
            <a:ext cx="460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Fler 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ke Edward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rik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rne Da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ie Jungst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sa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tieg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iza Markl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24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8170" r="0" b="0"/>
          <a:stretch/>
        </p:blipFill>
        <p:spPr>
          <a:xfrm>
            <a:off x="6300720" y="3068640"/>
            <a:ext cx="24019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8:35:48Z</dcterms:created>
  <dc:creator>IT- Avd.</dc:creator>
  <dc:description/>
  <dc:language>en-US</dc:language>
  <cp:lastModifiedBy>Per Malkert</cp:lastModifiedBy>
  <dcterms:modified xsi:type="dcterms:W3CDTF">2007-07-30T11:27:31Z</dcterms:modified>
  <cp:revision>83</cp:revision>
  <dc:subject/>
  <dc:title>Bild 1</dc:title>
</cp:coreProperties>
</file>