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ct" ContentType="image/x-pict"/>
  <Override PartName="/ppt/media/image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2BA-4430-4BD8-83E7-9B387CD5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081-2E5A-4377-A3E4-32F2E204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3A5-8186-47F9-ACC0-2697EC8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D748-AD1B-46FA-89BD-F1DF497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CC6-BC30-4370-A3B4-1E52BC47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AE5-9D52-4C2F-8EE7-BF238B61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20D-8D0D-429A-86F7-2DACDE3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1F0-7C25-4777-A74B-523F3DBB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673-4C87-4DC8-8E5E-9286006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3DC-F0E1-4730-A9CB-93062AB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75B-298E-4913-8BA4-799CDE1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82D-E1D7-4CE9-A699-3E29D0C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D26E-BA9C-45D2-8432-590B0C596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476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DECK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773360"/>
            <a:ext cx="7705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Följande delar brukar </a:t>
            </a:r>
            <a:r>
              <a:rPr b="1" i="1" lang="sv-SE" sz="2000" spc="-1" strike="noStrike">
                <a:solidFill>
                  <a:srgbClr val="dddddd"/>
                </a:solidFill>
                <a:latin typeface="Arial"/>
              </a:rPr>
              <a:t>vanligtvis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ngå i en deck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1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akgrundsberättels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där tid, miljö, personer och relationer beskrivs, själva ramen vari allt utspelar si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2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eskrivningen av själva brottet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är huvudingrediensen i en deckare. Det är detta som är höjdpunkten och som allt kretsar kring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3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Brottets utredande eller förklaringen till brottet.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I den här delen av berättelsen byggs en kedja upp som ska leda till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4. </a:t>
            </a:r>
            <a:r>
              <a:rPr b="1" lang="sv-SE" sz="2000" spc="-1" strike="noStrike">
                <a:solidFill>
                  <a:srgbClr val="bbe0e3"/>
                </a:solidFill>
                <a:latin typeface="Arial"/>
              </a:rPr>
              <a:t>Upplösningen</a:t>
            </a: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: brottslingen avslöjas, alternativt avslöjas i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2762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slingen är i centrum - varför sker brottet? Hur kan en människa ev. brytas ned av brot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Ingen vet vad som gömmer sig i människosjälen… Psykologiska drivkraf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ektiven ointressant; finns oftast 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Upplösningen kan vara ovik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Ligger nära andra genrer</a:t>
            </a:r>
            <a:r>
              <a:rPr b="0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1628640"/>
            <a:ext cx="446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garet Yor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rstin Ek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nger Friman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5013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Karin Alvt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476800" cy="315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844640"/>
            <a:ext cx="70563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örsiktiga, lågmälda spioner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Gentlemannaspion som kämpar för sitt fosterland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pioner som sviker och går över till ”andra sidan”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uperhjälten</a:t>
            </a: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om räddar värl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Nära en vanlig roman </a:t>
            </a:r>
            <a:br>
              <a:rPr sz="2200"/>
            </a:br>
            <a:r>
              <a:rPr b="1" i="1" lang="sv-SE" sz="2200" spc="-1" strike="noStrike">
                <a:solidFill>
                  <a:srgbClr val="dddddd"/>
                </a:solidFill>
                <a:latin typeface="Arial"/>
              </a:rPr>
              <a:t>ell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ction, våld, likriktat handlingsförlo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58920" y="1773360"/>
            <a:ext cx="42498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Ian Fle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ohn le Carr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Forb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en Folle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obert Lud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rederick Forsy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listar MacLe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ck Hig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Jan Guil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ven Wester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48428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Ian Fleming 1908-19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Casino Roy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Gold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21436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69228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Ungdomsdec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1484280"/>
            <a:ext cx="42498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mma W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ter Lidb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gnus Nord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Abrah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Veronica Wä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Fiona Ke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Ulf Nil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 Gen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aura Tr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ts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907920"/>
            <a:ext cx="22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Emma Vall </a:t>
            </a: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är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pseudonym f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Eva Swedenmar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Maria Herng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Annica Wennströ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2857320" cy="28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lika typer av deck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6360" y="1844640"/>
            <a:ext cx="73436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klassiska engelska detektivromanen /”Pusseldeckar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Den psykologiska kriminalroma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Spionromanen/politiska thrill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76360" y="184464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Knepig gåta är det viktigaste (listiga alibi, kan vara ett planerat bro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Finns ett antal misstänkta, kanske har brottet skett i ett låst rum eller 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Inga ledtrådar får döljas för läs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Mysiga miljö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Privatdetektiv-amatör eller professionell, gärna en äldre dam eller herre, lite spec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dddd"/>
                </a:solidFill>
                <a:latin typeface="Arial"/>
              </a:rPr>
              <a:t>Detektiven har någon att bolla sina tankar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klassiska engelska detektivromanen </a:t>
            </a:r>
            <a:br>
              <a:rPr sz="2800"/>
            </a:b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”Pusseldeckar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58920" y="1773360"/>
            <a:ext cx="4105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Agatha Christie</a:t>
            </a:r>
            <a:br>
              <a:rPr sz="2000"/>
            </a:b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P.D J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nette Wa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Elisabeth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tieg/Ulla Tr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Jan Mårten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940120" cy="3384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867280" y="5589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Agatha Christie 1890-1976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Miss Marple</a:t>
            </a:r>
            <a:br>
              <a:rPr sz="1800"/>
            </a:br>
            <a:r>
              <a:rPr b="1" i="1" lang="sv-SE" sz="1800" spc="-1" strike="noStrike">
                <a:solidFill>
                  <a:srgbClr val="dddddd"/>
                </a:solidFill>
                <a:latin typeface="Arial"/>
              </a:rPr>
              <a:t>Hercule Poi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42920" y="1773360"/>
            <a:ext cx="7056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Vår värld är ond och någon måste rensa upp i träsket</a:t>
            </a:r>
            <a:br>
              <a:rPr sz="2200"/>
            </a:b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Sjabbig men rättrådig privatdetektiv (poliskommissar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Trista miljöer ofta i storstad, samhällets ”baksid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Brottet inte så planerat, kan vara slumpartat, lösningen likas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1332000" y="692280"/>
            <a:ext cx="72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en hårdkokta amerikanska kriminal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1773360"/>
            <a:ext cx="4321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Raymond C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Walter Mos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Sue Graf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511720" cy="266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30072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Michael Conn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69228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1844640"/>
            <a:ext cx="7056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Det vanliga rutinarbetet för polisen viktig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En grupp poliser arbetar med fallet. Ev. kan någon synas lite 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torstadsmilj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"/>
              </a:rPr>
              <a:t>Ofta slumpen som avgör om man kan lösa brot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71640" y="1773360"/>
            <a:ext cx="4392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Ed McB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uth Rend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nna Ho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arin Foss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Reginald H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olin Dex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Peter Robin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jöwall/Wahlö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Olov Svedel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enning Mank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4797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Henning  Man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Henning Mankell one of the bestselling Swedish authors of all time."/>
          <p:cNvPicPr/>
          <p:nvPr/>
        </p:nvPicPr>
        <p:blipFill>
          <a:blip r:embed="rId2"/>
          <a:srcRect l="14399" t="0" r="0" b="0"/>
          <a:stretch/>
        </p:blipFill>
        <p:spPr>
          <a:xfrm>
            <a:off x="6084720" y="1773360"/>
            <a:ext cx="2568600" cy="2981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 rot="5400000">
            <a:off x="-2431080" y="3589920"/>
            <a:ext cx="5761080" cy="39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OLIKA DECKARE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692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dddddd"/>
                </a:solidFill>
                <a:latin typeface="Arial"/>
              </a:rPr>
              <a:t>Polis(rutin)rom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9160" cy="844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58920" y="1628640"/>
            <a:ext cx="460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dddddd"/>
                </a:solidFill>
                <a:latin typeface="Arial"/>
              </a:rPr>
              <a:t>Fler exempel på förfat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Håkan Nes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ke Edward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Kjell Erik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Arne Dah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Marie Jungst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Åsa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Stieg Lars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dddddd"/>
                </a:solidFill>
                <a:latin typeface="Arial"/>
              </a:rPr>
              <a:t>Liza Markl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24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dddddd"/>
                </a:solidFill>
                <a:latin typeface="Arial"/>
              </a:rPr>
              <a:t>Camilla Läck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0" t="8170" r="0" b="0"/>
          <a:stretch/>
        </p:blipFill>
        <p:spPr>
          <a:xfrm>
            <a:off x="6300720" y="3068640"/>
            <a:ext cx="2401920" cy="331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8:35:48Z</dcterms:created>
  <dc:creator>IT- Avd.</dc:creator>
  <dc:description/>
  <dc:language>en-US</dc:language>
  <cp:lastModifiedBy>Per Malkert</cp:lastModifiedBy>
  <dcterms:modified xsi:type="dcterms:W3CDTF">2007-07-30T11:27:31Z</dcterms:modified>
  <cp:revision>83</cp:revision>
  <dc:subject/>
  <dc:title>Bild 1</dc:title>
</cp:coreProperties>
</file>