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ct" ContentType="image/x-pict"/>
  <Override PartName="/ppt/media/image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E7B1-7758-42BE-A92F-088C3591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BCA4-31F3-4A86-BB5D-2AF1BED6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B36C-474D-498E-B1B4-4220DF6A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B6C3-0338-49C1-A050-87AC69E2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78DD-792D-4C6A-A806-2352BDF3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9EB8-68E9-4591-BB0E-9CDB2760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A892-1E1B-4194-A906-D96D9B22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3346-6C37-4AE6-98FD-EDA24E05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DB4-9698-43DE-85C0-3428C7AF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DFDD-42AC-4591-B273-CC81DD4F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82FE-300D-4FCD-BE9E-5FB14A07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D972-CE3C-4512-BE70-DE3ABB9E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BDA9-9488-47AC-B0CD-87A3B6B5C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476280"/>
            <a:ext cx="62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DECK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1773360"/>
            <a:ext cx="7705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Följande delar brukar </a:t>
            </a:r>
            <a:r>
              <a:rPr b="1" i="1" lang="sv-SE" sz="2000" spc="-1" strike="noStrike">
                <a:solidFill>
                  <a:srgbClr val="dddddd"/>
                </a:solidFill>
                <a:latin typeface="Arial"/>
              </a:rPr>
              <a:t>vanligtvis</a:t>
            </a: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 ingå i en deckar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1. </a:t>
            </a:r>
            <a:r>
              <a:rPr b="1" lang="sv-SE" sz="2000" spc="-1" strike="noStrike">
                <a:solidFill>
                  <a:srgbClr val="bbe0e3"/>
                </a:solidFill>
                <a:latin typeface="Arial"/>
              </a:rPr>
              <a:t>Bakgrundsberättelsen</a:t>
            </a: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 där tid, miljö, personer och relationer beskrivs, själva ramen vari allt utspelar sig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2. </a:t>
            </a:r>
            <a:r>
              <a:rPr b="1" lang="sv-SE" sz="2000" spc="-1" strike="noStrike">
                <a:solidFill>
                  <a:srgbClr val="bbe0e3"/>
                </a:solidFill>
                <a:latin typeface="Arial"/>
              </a:rPr>
              <a:t>Beskrivningen av själva brottet</a:t>
            </a: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 är huvudingrediensen i en deckare. Det är detta som är höjdpunkten och som allt kretsar kring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3. </a:t>
            </a:r>
            <a:r>
              <a:rPr b="1" lang="sv-SE" sz="2000" spc="-1" strike="noStrike">
                <a:solidFill>
                  <a:srgbClr val="bbe0e3"/>
                </a:solidFill>
                <a:latin typeface="Arial"/>
              </a:rPr>
              <a:t>Brottets utredande eller förklaringen till brottet.</a:t>
            </a: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 I den här delen av berättelsen byggs en kedja upp som ska leda till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4. </a:t>
            </a:r>
            <a:r>
              <a:rPr b="1" lang="sv-SE" sz="2000" spc="-1" strike="noStrike">
                <a:solidFill>
                  <a:srgbClr val="bbe0e3"/>
                </a:solidFill>
                <a:latin typeface="Arial"/>
              </a:rPr>
              <a:t>Upplösningen</a:t>
            </a: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: brottslingen avslöjas, alternativt avslöjas i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127620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133200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psykologiska kriminal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76360" y="1844640"/>
            <a:ext cx="70563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Brottslingen är i centrum - varför sker brottet? Hur kan en människa ev. brytas ned av brotte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Ingen vet vad som gömmer sig i människosjälen… Psykologiska drivkraf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Detektiven ointressant; finns oftast 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Upplösningen kan vara ovik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Ligger nära andra genrer</a:t>
            </a:r>
            <a:r>
              <a:rPr b="0" lang="en-US" sz="22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psykologiska kriminal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42920" y="1628640"/>
            <a:ext cx="446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Margaret Yor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Ruth Rend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P.D J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Minette Wal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erstin Ekm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Inger Friman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Håkan Nes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arin Alvte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501336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dddddd"/>
                </a:solidFill>
                <a:latin typeface="Arial"/>
              </a:rPr>
              <a:t>Karin Alvte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84720" y="1773360"/>
            <a:ext cx="2476800" cy="3152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Spionromanen/politiska thrill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76360" y="1844640"/>
            <a:ext cx="70563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Försiktiga, lågmälda spioner </a:t>
            </a:r>
            <a:br>
              <a:rPr sz="2200"/>
            </a:b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ell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uperhjält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Gentlemannaspion som kämpar för sitt fosterland 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eller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pioner som sviker och går över till ”andra sidan” 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ell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uperhjälten</a:t>
            </a: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om räddar värl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Nära en vanlig roman </a:t>
            </a:r>
            <a:br>
              <a:rPr sz="2200"/>
            </a:b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ell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action, våld, likriktat handlingsförlop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Spionromanen/politiska thrill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58920" y="1773360"/>
            <a:ext cx="424980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Ian Fle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John le Carr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Colin Forb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en Follet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Robert Ludl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Frederick Forsy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Alistar MacLe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Jack Higg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Jan Guill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ven Westerbe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2000" y="148428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dddddd"/>
                </a:solidFill>
                <a:latin typeface="Arial"/>
              </a:rPr>
              <a:t>Ian Fleming 1908-19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dddddd"/>
                </a:solidFill>
                <a:latin typeface="Arial"/>
              </a:rPr>
              <a:t>Casino Roy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dddddd"/>
                </a:solidFill>
                <a:latin typeface="Arial"/>
              </a:rPr>
              <a:t>Goldfi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156360" y="2492280"/>
            <a:ext cx="2214360" cy="295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69228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Ungdomsdeck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58920" y="1484280"/>
            <a:ext cx="4249800" cy="45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Emma W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Petter Lidbe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Magnus Nord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Peter Abrah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Olov Svedel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Veronica Wäg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Fiona Ke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Ulf Nil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jell E Genbe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Laura Tr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Mats Lar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84720" y="907920"/>
            <a:ext cx="22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Emma Vall </a:t>
            </a: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är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pseudonym fö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Eva Swedenmar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Maria Herngr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Annica Wennströ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651640" y="2781360"/>
            <a:ext cx="2857320" cy="28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69228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Olika typer av deck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76360" y="1844640"/>
            <a:ext cx="73436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Den klassiska engelska detektivromanen /”Pusseldeckare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Den hårdkokta amerikanska kriminalrom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Polis(rutin)rom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Den psykologiska kriminalrom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Spionromanen/politiska thrill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9228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klassiska engelska detektivromanen </a:t>
            </a:r>
            <a:br>
              <a:rPr sz="2800"/>
            </a:b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”Pusseldeckar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476360" y="1844640"/>
            <a:ext cx="705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Knepig gåta är det viktigaste (listiga alibi, kan vara ett planerat bro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Finns ett antal misstänkta, kanske har brottet skett i ett låst rum eller h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Inga ledtrådar får döljas för läs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Mysiga miljö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Privatdetektiv-amatör eller professionell, gärna en äldre dam eller herre, lite speci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Detektiven har någon att bolla sina tankar 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1332000" y="69228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klassiska engelska detektivromanen </a:t>
            </a:r>
            <a:br>
              <a:rPr sz="2800"/>
            </a:b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”Pusseldeckar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58920" y="1773360"/>
            <a:ext cx="410508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Agatha Christie</a:t>
            </a:r>
            <a:br>
              <a:rPr sz="2000"/>
            </a:b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P.D J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Minette Wa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Elisabeth Ge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Ruth Ren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Stieg/Ulla Tr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Jan Mårten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867280" y="1989000"/>
            <a:ext cx="2940120" cy="3384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5867280" y="55897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dddddd"/>
                </a:solidFill>
                <a:latin typeface="Arial"/>
              </a:rPr>
              <a:t>Agatha Christie 1890-1976</a:t>
            </a:r>
            <a:br>
              <a:rPr sz="1800"/>
            </a:br>
            <a:r>
              <a:rPr b="1" i="1" lang="sv-SE" sz="1800" spc="-1" strike="noStrike">
                <a:solidFill>
                  <a:srgbClr val="dddddd"/>
                </a:solidFill>
                <a:latin typeface="Arial"/>
              </a:rPr>
              <a:t>Miss Marple</a:t>
            </a:r>
            <a:br>
              <a:rPr sz="1800"/>
            </a:br>
            <a:r>
              <a:rPr b="1" i="1" lang="sv-SE" sz="1800" spc="-1" strike="noStrike">
                <a:solidFill>
                  <a:srgbClr val="dddddd"/>
                </a:solidFill>
                <a:latin typeface="Arial"/>
              </a:rPr>
              <a:t>Hercule Poir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69228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hårdkokta amerikanska kriminal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042920" y="1773360"/>
            <a:ext cx="70563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Vår värld är ond och någon måste rensa upp i träsket</a:t>
            </a:r>
            <a:br>
              <a:rPr sz="2200"/>
            </a:b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Sjabbig men rättrådig privatdetektiv (poliskommissari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Trista miljöer ofta i storstad, samhällets ”baksid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Brottet inte så planerat, kan vara slumpartat, lösningen likas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1332000" y="69228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hårdkokta amerikanska kriminal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58920" y="1773360"/>
            <a:ext cx="432108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Raymond Chand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Walter Mos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Sue Graf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Michael Conne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227640" y="3141720"/>
            <a:ext cx="2511720" cy="2663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630072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dddddd"/>
                </a:solidFill>
                <a:latin typeface="Arial"/>
              </a:rPr>
              <a:t>Michael Conne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1332000" y="69228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dddddd"/>
                </a:solidFill>
                <a:latin typeface="Arial"/>
              </a:rPr>
              <a:t>Polis(rutin)roma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76360" y="1844640"/>
            <a:ext cx="7056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Det vanliga rutinarbetet för polisen viktig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En grupp poliser arbetar med fallet. Ev. kan någon synas lite 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Ofta storstadsmilj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Ofta slumpen som avgör om man kan lösa brott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dddddd"/>
                </a:solidFill>
                <a:latin typeface="Arial"/>
              </a:rPr>
              <a:t>Polis(rutin)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71640" y="1773360"/>
            <a:ext cx="439236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Ed McB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Ruth Rend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Anna Ho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arin Foss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Reginald H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Colin Dex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Peter Robin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jöwall/Wahlö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Olov Svedel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Henning Mank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84720" y="4797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Henning  Mank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Henning Mankell one of the bestselling Swedish authors of all time."/>
          <p:cNvPicPr/>
          <p:nvPr/>
        </p:nvPicPr>
        <p:blipFill>
          <a:blip r:embed="rId2"/>
          <a:srcRect l="14399" t="0" r="0" b="0"/>
          <a:stretch/>
        </p:blipFill>
        <p:spPr>
          <a:xfrm>
            <a:off x="6084720" y="1773360"/>
            <a:ext cx="2568600" cy="2981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dddddd"/>
                </a:solidFill>
                <a:latin typeface="Arial"/>
              </a:rPr>
              <a:t>Polis(rutin)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58920" y="1628640"/>
            <a:ext cx="46083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Fler exempel på författ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Håkan Nes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Åke Edward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jell Erik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Camilla Läckbe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Arne Dah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Marie Jungsted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Åsa Lar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tieg Lar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Liza Markl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72360" y="242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dddddd"/>
                </a:solidFill>
                <a:latin typeface="Arial"/>
              </a:rPr>
              <a:t>Camilla Läckbe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0" t="8170" r="0" b="0"/>
          <a:stretch/>
        </p:blipFill>
        <p:spPr>
          <a:xfrm>
            <a:off x="6300720" y="3068640"/>
            <a:ext cx="2401920" cy="331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6T18:35:48Z</dcterms:created>
  <dc:creator>IT- Avd.</dc:creator>
  <dc:description/>
  <dc:language>en-US</dc:language>
  <cp:lastModifiedBy>Per Malkert</cp:lastModifiedBy>
  <dcterms:modified xsi:type="dcterms:W3CDTF">2007-07-30T11:27:31Z</dcterms:modified>
  <cp:revision>83</cp:revision>
  <dc:subject/>
  <dc:title>Bild 1</dc:title>
</cp:coreProperties>
</file>